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media/image4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D79-1A8F-4BDE-96C6-74BDB093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8F7-D047-497E-B48B-6830B0E2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695-5EB0-4FDF-A8DC-19566B38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40E-E137-4503-AF5E-FD5CD4D6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6FD2-D791-46E1-A899-1AA50DFE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A038-A7FA-4295-AE58-3210E44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089C-BBB5-4FF3-981A-33E261DA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01E9-C0AA-45AB-BC43-0CCD3A06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7BDE-DC30-4300-80D0-1EDFCE5B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559C-3671-4458-B65A-A8B55E94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26A1-3787-4E5B-8AC8-3189EE28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BD8-6A89-4997-B776-6307F314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842A-AAC6-4F1A-921E-46E03187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BC27-D58E-4DC1-BD5E-0EBBDDCC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E4AA-AFE8-4B72-9F02-13C2C052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61BF-B16F-4F4D-9FCC-583DE331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20BC-03A2-47FE-A4E6-2EAA1596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BD7-63B0-436C-8366-66C2F944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CF7-94CE-4F4C-BF6F-C497FD0B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D81-694A-4C85-A8F9-32615DEE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180-F74B-4690-90BA-35582D6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B47-E06E-4B66-AA8D-20BEF0AD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EA5-CC56-4965-B145-E587D6BA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3E8-289A-4F9E-AE5E-F2DBD574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739F-719A-4B0A-A2AC-6E83583D7E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E2FF-6131-4D10-9112-9F03A45BAD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0426400">
            <a:off x="3048120" y="2209320"/>
            <a:ext cx="2590560" cy="13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94f07"/>
                </a:solidFill>
                <a:uFillTx/>
                <a:latin typeface="Impact"/>
              </a:rPr>
              <a:t>Burns</a:t>
            </a:r>
            <a:endParaRPr b="0" i="1" lang="en-US" sz="6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7010280" y="30481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38280" y="3962520"/>
            <a:ext cx="4114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First Degree Burns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urn in which only the outer layer of skin is burned and turn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heals quick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type of first degree burn is sunbur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Second Degree Burn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rious burn in which the burned area blis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intense redness, pain, and swel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burn usually heals without scar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227340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84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Third Degree Burn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ery serious burn in which deep layers of skin and nerve endings are damag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rned areas may be white or char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in will be inte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3137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7:44Z</dcterms:created>
  <dc:creator>Kraybill Campus LMS</dc:creator>
  <dc:description/>
  <dc:language>en-US</dc:language>
  <cp:lastModifiedBy>Kraybill Campus LMS</cp:lastModifiedBy>
  <dcterms:modified xsi:type="dcterms:W3CDTF">2011-05-25T16:02:44Z</dcterms:modified>
  <cp:revision>4</cp:revision>
  <dc:subject/>
  <dc:title>Burns</dc:title>
</cp:coreProperties>
</file>